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72F4-D4D1-48BA-8ADE-6092F69620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956A-A550-4D91-9D16-1B62BD6B85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DEBE-1AC3-4FFC-A130-8774CD3FAE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McGraw-Hill Companies,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81A3-2CF1-427F-A1B9-D7871BEC6A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73AB-0FD1-4739-9370-E08F87B876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DEB6-9DDB-4572-876E-BD0C0EEC5E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D924-E463-4355-A5AB-1C5C196173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6319-E74F-4679-82C7-28E228A95E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B618-6730-4067-92BF-EC5CDB8ABB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0965-C57D-43E1-99B7-FFDDE9566E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BA65-E9C9-454F-908A-62F44D3D9D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C6BA-4A1C-4D8E-989D-22DB949A25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91C6-54A0-4765-A007-15C2AD3725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0C7A-02B6-4726-8CC9-B8FCDCCA9E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AC54-A259-4C90-BC8C-3DBB5F219A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AAE4-39E0-4B95-A073-21369B726F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3E67-02E5-4785-B816-796D3D4913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C8B57-84C8-4A21-88ED-A467E1516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80A4-62D7-441B-A952-B1F463D6A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19A15-FA51-4603-87F6-F971B87E2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608A3-F001-40C5-A6EB-00887CE10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781E9-4963-4A82-9A79-2B0E8A182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A5542-788C-4C2A-8A93-9AC38161E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7D314-8E80-4095-9539-8D054D90E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D4711-BFAF-444B-9050-CF659DBF5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BDE8C-708A-4A3F-ADD8-67086B0F6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EB0CE-6382-4F53-937B-18A2A2B69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2AB8C-572E-4AEF-9B5E-9FC827C4D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1A2F-D57A-4502-86AA-2886A1BFE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06DDC-8DC9-48B2-91D8-E3D2D624C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43AD0-72CC-4173-84A3-987168683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E1D31-5F05-45A1-B7D5-D9731CB18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227A7-AA5D-4A81-90D1-A286E06C6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9DEC9-05DF-48BE-BF25-CD4ED3EC3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44FBD8-6787-4603-BE49-E709B9F322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848565-6F1E-498B-8737-3AC70E592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5F399-3E0A-4A5F-BCC0-B95FE4CD13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8CC6C-D52D-4B39-8ED6-71D1A2676D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9C896-C563-4750-9295-27FB52DF5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87937-4B17-41D3-99E7-AD7DF70E1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6EC78B-9D3D-47A5-922A-9707169F2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8DE88-E7A6-46F6-98C7-3421625E6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6C699-8E6B-4A34-8F1F-1E5CB69FE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FA63A-CBB0-46B2-AD89-F4089097C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2DF4A3-2CB2-4CC2-AF70-D72929C22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B0F0DF-28EE-47DB-BF5F-5B28D0EB92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027B42-E490-47C0-81B7-6BF7327695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185372-B584-43FA-B11E-707A930343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7F562-D0DF-4BBE-BCAF-ACAA83CAB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1B7FC-EF16-4FF2-A216-67528E7AF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DDF24-DED9-4EA6-973F-DBDA53E8D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AEBDF-5FC7-4F42-8111-DA27689985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833234-E9C1-4EF8-832C-9D9826C50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ACD2A-B500-4FA0-AA9C-967A6B8EE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C22FE-248C-427B-B86D-B283D4C77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8CC18-E687-4386-8D8C-3CCEA1A3C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90B65-D3F8-4A13-BB5C-698C08269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1C106-D681-415A-B05B-625061AF5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B08E38-15E9-4B05-A0A2-8FA21A07E5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C2DDC-F5A6-407D-B859-48FBF4DE7F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627016-B65A-46F5-BF25-24E90CC109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FF660-5D8B-4634-ACE6-3D63F4E38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B0312C-0323-4128-AAE0-F184DA2C9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FAB46B-2FAB-457B-85C6-D55AEB51A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1C000-7F4B-40EA-859D-373B7A8C0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E039BF-BDD5-449A-B9F4-28299ED51B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E7B43-3317-4D04-A692-B98BF49F97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69D392-2C80-4217-A63D-7900F9AE0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38408E-DFC2-4DF0-8CE7-67E90745D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2D453-1EE7-4C5B-8B1A-6BF5A7585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1C1330-7D69-4074-9109-B6B28B7FDF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87961E-4569-413A-80A5-76F294B8AE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61458-D9AB-43F1-BF0A-6D2E67246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37FA3B-6FF9-4534-B738-DBF4B4C084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92FC38-1B2D-43F1-995B-63340D06BB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331BE1-7EBC-4BED-8B07-CC7E220A8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EC1DD-A216-4F68-804A-1BEE738C4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E2057-4DE8-4648-9F75-DED545837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BDD3A-9C81-4E9F-B266-1E06EB030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7FA6C5-84E7-49DD-9500-E662BECBB4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D68AB-D2C6-40F6-898D-C3088E1E0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2CA38-5A03-4592-81D1-D93577F3A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4D67B-A3C7-4EDE-80F9-B8ED1C538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4E1C-DA66-4DB1-8FAA-741269331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5AB528-27EB-4771-BF4D-F9C25C4494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D7ABF2-221F-4CF1-847D-645F0000C5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3984D3-85AC-4D39-A261-73BCD2F00F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A73913-1FAD-46E4-A75C-7889AAAD98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E0C27-978B-4825-B807-FC46733CA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584297-79B9-4559-88EB-D927C0CE08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2BB3A-6603-42A0-834E-CCC2E06EF6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57B06-7D03-4BB2-ADE4-873F84B0B8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D99A3-6D25-42C7-AD9C-BCE954CEE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4C677-3AB0-461B-BE47-99AAD955D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EB1AA-29BE-449A-B87B-D1EABAC8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03D9CE-7FF8-4EB9-904A-811C39B58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A4440-7BA4-493F-8B76-FA727E8251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918EFB-6C36-4754-ABE2-6CE08C2BC3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1A30E3-F614-4302-A2CE-A0695BBF8B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04B9D2-FF28-41C6-8794-9A478F0738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6B4AC-BC5E-4653-B19B-B39358597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0" name="Group 12"/>
          <p:cNvGrpSpPr/>
          <p:nvPr/>
        </p:nvGrpSpPr>
        <p:grpSpPr>
          <a:xfrm>
            <a:off x="0" y="1428840"/>
            <a:ext cx="9144000" cy="285840"/>
            <a:chOff x="0" y="1428840"/>
            <a:chExt cx="9144000" cy="285840"/>
          </a:xfrm>
        </p:grpSpPr>
        <p:sp>
          <p:nvSpPr>
            <p:cNvPr id="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3"/>
          <p:cNvSpPr>
            <a:spLocks noGrp="1"/>
          </p:cNvSpPr>
          <p:nvPr>
            <p:ph type="ftr" idx="2"/>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7" name="PlaceHolder 4"/>
          <p:cNvSpPr>
            <a:spLocks noGrp="1"/>
          </p:cNvSpPr>
          <p:nvPr>
            <p:ph type="sldNum" idx="3"/>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1D9B-56F5-4EDC-82FA-27B24A710493}"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
        <p:nvSpPr>
          <p:cNvPr id="8" name="PlaceHolder 5"/>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14"/>
          <p:cNvGrpSpPr/>
          <p:nvPr/>
        </p:nvGrpSpPr>
        <p:grpSpPr>
          <a:xfrm>
            <a:off x="-360" y="2928960"/>
            <a:ext cx="9144360" cy="285840"/>
            <a:chOff x="-360" y="2928960"/>
            <a:chExt cx="9144360" cy="285840"/>
          </a:xfrm>
        </p:grpSpPr>
        <p:sp>
          <p:nvSpPr>
            <p:cNvPr id="46"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5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1" name="PlaceHolder 3"/>
          <p:cNvSpPr>
            <a:spLocks noGrp="1"/>
          </p:cNvSpPr>
          <p:nvPr>
            <p:ph type="dt" idx="4"/>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ffffff"/>
              </a:solidFill>
              <a:latin typeface="Times New Roman"/>
            </a:endParaRPr>
          </a:p>
        </p:txBody>
      </p:sp>
      <p:sp>
        <p:nvSpPr>
          <p:cNvPr id="53" name="PlaceHolder 5"/>
          <p:cNvSpPr>
            <a:spLocks noGrp="1"/>
          </p:cNvSpPr>
          <p:nvPr>
            <p:ph type="sldNum" idx="6"/>
          </p:nvPr>
        </p:nvSpPr>
        <p:spPr>
          <a:xfrm>
            <a:off x="8334000" y="292896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7039-96C3-4B89-97E9-20AF16BD01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90" name="Group 12"/>
          <p:cNvGrpSpPr/>
          <p:nvPr/>
        </p:nvGrpSpPr>
        <p:grpSpPr>
          <a:xfrm>
            <a:off x="0" y="1428840"/>
            <a:ext cx="9144000" cy="285840"/>
            <a:chOff x="0" y="1428840"/>
            <a:chExt cx="9144000" cy="285840"/>
          </a:xfrm>
        </p:grpSpPr>
        <p:sp>
          <p:nvSpPr>
            <p:cNvPr id="9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3"/>
          <p:cNvSpPr>
            <a:spLocks noGrp="1"/>
          </p:cNvSpPr>
          <p:nvPr>
            <p:ph type="dt" idx="7"/>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7CD2-9DAF-448B-9C09-AFB052C9C1D5}"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Group 10"/>
          <p:cNvGrpSpPr/>
          <p:nvPr/>
        </p:nvGrpSpPr>
        <p:grpSpPr>
          <a:xfrm>
            <a:off x="-360" y="2928960"/>
            <a:ext cx="9144360" cy="285840"/>
            <a:chOff x="-360" y="2928960"/>
            <a:chExt cx="9144360" cy="285840"/>
          </a:xfrm>
        </p:grpSpPr>
        <p:sp>
          <p:nvSpPr>
            <p:cNvPr id="136"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4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41" name="PlaceHolder 3"/>
          <p:cNvSpPr>
            <a:spLocks noGrp="1"/>
          </p:cNvSpPr>
          <p:nvPr>
            <p:ph type="dt" idx="10"/>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ffffff"/>
              </a:solidFill>
              <a:latin typeface="Times New Roman"/>
            </a:endParaRPr>
          </a:p>
        </p:txBody>
      </p:sp>
      <p:sp>
        <p:nvSpPr>
          <p:cNvPr id="143" name="PlaceHolder 5"/>
          <p:cNvSpPr>
            <a:spLocks noGrp="1"/>
          </p:cNvSpPr>
          <p:nvPr>
            <p:ph type="sldNum" idx="12"/>
          </p:nvPr>
        </p:nvSpPr>
        <p:spPr>
          <a:xfrm>
            <a:off x="8334000" y="292896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5E82-2BE5-4580-82CD-79E4841A51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0" name="Group 9"/>
          <p:cNvGrpSpPr/>
          <p:nvPr/>
        </p:nvGrpSpPr>
        <p:grpSpPr>
          <a:xfrm>
            <a:off x="0" y="1428840"/>
            <a:ext cx="9144000" cy="285840"/>
            <a:chOff x="0" y="1428840"/>
            <a:chExt cx="9144000" cy="285840"/>
          </a:xfrm>
        </p:grpSpPr>
        <p:sp>
          <p:nvSpPr>
            <p:cNvPr id="181" name="Rectangle 11"/>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12"/>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Rectangle 13"/>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3"/>
          <p:cNvSpPr>
            <a:spLocks noGrp="1"/>
          </p:cNvSpPr>
          <p:nvPr>
            <p:ph type="dt" idx="13"/>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D10A-6BF9-4111-B46C-E44F51A10049}"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25" name="Group 10"/>
          <p:cNvGrpSpPr/>
          <p:nvPr/>
        </p:nvGrpSpPr>
        <p:grpSpPr>
          <a:xfrm>
            <a:off x="0" y="6286680"/>
            <a:ext cx="9144000" cy="285480"/>
            <a:chOff x="0" y="6286680"/>
            <a:chExt cx="9144000" cy="285480"/>
          </a:xfrm>
        </p:grpSpPr>
        <p:sp>
          <p:nvSpPr>
            <p:cNvPr id="226"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3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3"/>
          <p:cNvSpPr>
            <a:spLocks noGrp="1"/>
          </p:cNvSpPr>
          <p:nvPr>
            <p:ph type="dt" idx="16"/>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360" y="6286320"/>
            <a:ext cx="809640" cy="285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8868-80DC-4CC1-BABD-B60A8078343A}"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70" name="Group 10"/>
          <p:cNvGrpSpPr/>
          <p:nvPr/>
        </p:nvGrpSpPr>
        <p:grpSpPr>
          <a:xfrm>
            <a:off x="0" y="6286680"/>
            <a:ext cx="9144000" cy="285480"/>
            <a:chOff x="0" y="6286680"/>
            <a:chExt cx="9144000" cy="285480"/>
          </a:xfrm>
        </p:grpSpPr>
        <p:sp>
          <p:nvSpPr>
            <p:cNvPr id="271"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7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6" name="PlaceHolder 3"/>
          <p:cNvSpPr>
            <a:spLocks noGrp="1"/>
          </p:cNvSpPr>
          <p:nvPr>
            <p:ph type="dt" idx="19"/>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360" y="6286320"/>
            <a:ext cx="809640" cy="285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9CCE-0B1F-461D-AEFC-ECE0D95CF18A}"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2" name="Rectangle 2" descr=""/>
          <p:cNvPicPr/>
          <p:nvPr/>
        </p:nvPicPr>
        <p:blipFill>
          <a:blip r:embed="rId2"/>
          <a:stretch/>
        </p:blipFill>
        <p:spPr>
          <a:xfrm>
            <a:off x="841320" y="281160"/>
            <a:ext cx="8229600" cy="1145880"/>
          </a:xfrm>
          <a:prstGeom prst="rect">
            <a:avLst/>
          </a:prstGeom>
          <a:ln w="0">
            <a:noFill/>
          </a:ln>
        </p:spPr>
      </p:pic>
      <p:sp>
        <p:nvSpPr>
          <p:cNvPr id="323" name=""/>
          <p:cNvSpPr txBox="1"/>
          <p:nvPr/>
        </p:nvSpPr>
        <p:spPr>
          <a:xfrm>
            <a:off x="843120" y="1715760"/>
            <a:ext cx="8229600" cy="4838760"/>
          </a:xfrm>
          <a:prstGeom prst="rect">
            <a:avLst/>
          </a:prstGeom>
          <a:noFill/>
          <a:ln w="0">
            <a:noFill/>
          </a:ln>
        </p:spPr>
        <p:txBody>
          <a:bodyPr anchor="ctr">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XPERIMENTAL DESIGN</a:t>
            </a:r>
            <a:endParaRPr b="0" lang="en-US" sz="3600" spc="-1" strike="noStrike">
              <a:solidFill>
                <a:srgbClr val="000000"/>
              </a:solidFill>
              <a:latin typeface="Cambria"/>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mbria"/>
            </a:endParaRPr>
          </a:p>
        </p:txBody>
      </p:sp>
      <p:sp>
        <p:nvSpPr>
          <p:cNvPr id="324"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841320" y="281160"/>
            <a:ext cx="8229600" cy="1145880"/>
          </a:xfrm>
          <a:prstGeom prst="rect">
            <a:avLst/>
          </a:prstGeom>
          <a:ln w="0">
            <a:noFill/>
          </a:ln>
        </p:spPr>
      </p:pic>
      <p:sp>
        <p:nvSpPr>
          <p:cNvPr id="358"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5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4931-8F47-4AC8-A577-9BCB1FBE2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60" name="Picture 2" descr=""/>
          <p:cNvPicPr/>
          <p:nvPr/>
        </p:nvPicPr>
        <p:blipFill>
          <a:blip r:embed="rId2"/>
          <a:stretch/>
        </p:blipFill>
        <p:spPr>
          <a:xfrm>
            <a:off x="2624040" y="1766880"/>
            <a:ext cx="3895920" cy="47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Rectangle 2" descr=""/>
          <p:cNvPicPr/>
          <p:nvPr/>
        </p:nvPicPr>
        <p:blipFill>
          <a:blip r:embed="rId1"/>
          <a:stretch/>
        </p:blipFill>
        <p:spPr>
          <a:xfrm>
            <a:off x="841320" y="281160"/>
            <a:ext cx="8229600" cy="1145880"/>
          </a:xfrm>
          <a:prstGeom prst="rect">
            <a:avLst/>
          </a:prstGeom>
          <a:ln w="0">
            <a:noFill/>
          </a:ln>
        </p:spPr>
      </p:pic>
      <p:sp>
        <p:nvSpPr>
          <p:cNvPr id="362"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dependent groups design</a:t>
            </a:r>
            <a:r>
              <a:rPr b="0" lang="en-US" sz="3200" spc="-1" strike="noStrike">
                <a:solidFill>
                  <a:srgbClr val="000000"/>
                </a:solidFill>
                <a:latin typeface="Times New Roman"/>
                <a:ea typeface="Times New Roman"/>
              </a:rPr>
              <a:t>: Participants participate in only one group</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ea typeface="Times New Roman"/>
              </a:rPr>
              <a:t>Between-subjects design</a:t>
            </a:r>
            <a:r>
              <a:rPr b="0" lang="en-IN" sz="2800" spc="-1" strike="noStrike">
                <a:solidFill>
                  <a:srgbClr val="000000"/>
                </a:solidFill>
                <a:latin typeface="Times New Roman"/>
                <a:ea typeface="Times New Roman"/>
              </a:rPr>
              <a:t>: Comparisons are made between different groups of participants</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eated measures design</a:t>
            </a:r>
            <a:r>
              <a:rPr b="0" lang="en-US" sz="3200" spc="-1" strike="noStrike">
                <a:solidFill>
                  <a:srgbClr val="000000"/>
                </a:solidFill>
                <a:latin typeface="Times New Roman"/>
                <a:ea typeface="Times New Roman"/>
              </a:rPr>
              <a:t>: Participants are assigned to multiple group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ea typeface="Times New Roman"/>
              </a:rPr>
              <a:t>Within-subjects design</a:t>
            </a:r>
            <a:r>
              <a:rPr b="0" lang="en-IN" sz="2800" spc="-1" strike="noStrike">
                <a:solidFill>
                  <a:srgbClr val="000000"/>
                </a:solidFill>
                <a:latin typeface="Times New Roman"/>
                <a:ea typeface="Times New Roman"/>
              </a:rPr>
              <a:t>: Comparisons are made within the same group of participants</a:t>
            </a:r>
            <a:endParaRPr b="0" lang="en-US" sz="2800" spc="-1" strike="noStrike">
              <a:solidFill>
                <a:srgbClr val="000000"/>
              </a:solidFill>
              <a:latin typeface="Cambri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63"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6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6BEE-4855-45D1-B1A8-0F38CB5E2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841320" y="281160"/>
            <a:ext cx="8229600" cy="1145880"/>
          </a:xfrm>
          <a:prstGeom prst="rect">
            <a:avLst/>
          </a:prstGeom>
          <a:ln w="0">
            <a:noFill/>
          </a:ln>
        </p:spPr>
      </p:pic>
      <p:sp>
        <p:nvSpPr>
          <p:cNvPr id="36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ea typeface="Times New Roman"/>
              </a:rPr>
              <a:t>Random assignment</a:t>
            </a:r>
            <a:r>
              <a:rPr b="0" lang="en-IN" sz="3200" spc="-1" strike="noStrike">
                <a:solidFill>
                  <a:srgbClr val="000000"/>
                </a:solidFill>
                <a:latin typeface="Times New Roman"/>
                <a:ea typeface="Times New Roman"/>
              </a:rPr>
              <a:t>: Used in independent groups design to assign different participants to each of the condition</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Repeated measures experimental design</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Procedure in which same individuals participate in all of the groups</a:t>
            </a:r>
            <a:endParaRPr b="0" lang="en-US" sz="2800" spc="-1" strike="noStrike">
              <a:solidFill>
                <a:srgbClr val="000000"/>
              </a:solidFill>
              <a:latin typeface="Cambria"/>
            </a:endParaRPr>
          </a:p>
        </p:txBody>
      </p:sp>
      <p:sp>
        <p:nvSpPr>
          <p:cNvPr id="36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6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8B3A-E9AA-4DDB-ABE9-78108C49C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Rectangle 2" descr=""/>
          <p:cNvPicPr/>
          <p:nvPr/>
        </p:nvPicPr>
        <p:blipFill>
          <a:blip r:embed="rId1"/>
          <a:stretch/>
        </p:blipFill>
        <p:spPr>
          <a:xfrm>
            <a:off x="841320" y="281160"/>
            <a:ext cx="8229600" cy="1145880"/>
          </a:xfrm>
          <a:prstGeom prst="rect">
            <a:avLst/>
          </a:prstGeom>
          <a:ln w="0">
            <a:noFill/>
          </a:ln>
        </p:spPr>
      </p:pic>
      <p:sp>
        <p:nvSpPr>
          <p:cNvPr id="370"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vantages</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wer participants</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tremely sensitive to statistical differences</a:t>
            </a:r>
            <a:endParaRPr b="0" lang="en-US" sz="2800" spc="-1" strike="noStrike">
              <a:solidFill>
                <a:srgbClr val="000000"/>
              </a:solidFill>
              <a:latin typeface="Cambria"/>
            </a:endParaRPr>
          </a:p>
        </p:txBody>
      </p:sp>
      <p:sp>
        <p:nvSpPr>
          <p:cNvPr id="371"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7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5BCD-EE13-4EAD-A405-5B4751C80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Rectangle 2" descr=""/>
          <p:cNvPicPr/>
          <p:nvPr/>
        </p:nvPicPr>
        <p:blipFill>
          <a:blip r:embed="rId1"/>
          <a:stretch/>
        </p:blipFill>
        <p:spPr>
          <a:xfrm>
            <a:off x="841320" y="281160"/>
            <a:ext cx="8229600" cy="1145880"/>
          </a:xfrm>
          <a:prstGeom prst="rect">
            <a:avLst/>
          </a:prstGeom>
          <a:ln w="0">
            <a:noFill/>
          </a:ln>
        </p:spPr>
      </p:pic>
      <p:sp>
        <p:nvSpPr>
          <p:cNvPr id="374"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advantages</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rder effect</a:t>
            </a:r>
            <a:r>
              <a:rPr b="0" lang="en-US" sz="2800" spc="-1" strike="noStrike">
                <a:solidFill>
                  <a:srgbClr val="000000"/>
                </a:solidFill>
                <a:latin typeface="Times New Roman"/>
                <a:ea typeface="Times New Roman"/>
              </a:rPr>
              <a:t>: Order of presenting the treatments affects the dependent variable</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actice </a:t>
            </a:r>
            <a:r>
              <a:rPr b="0"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learning</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ffect</a:t>
            </a:r>
            <a:r>
              <a:rPr b="0" lang="en-US" sz="2800" spc="-1" strike="noStrike">
                <a:solidFill>
                  <a:srgbClr val="000000"/>
                </a:solidFill>
                <a:latin typeface="Times New Roman"/>
                <a:ea typeface="Times New Roman"/>
              </a:rPr>
              <a:t>: Performance improves because of the practice gained from previous tasks</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atigue effect</a:t>
            </a:r>
            <a:r>
              <a:rPr b="0" lang="en-US" sz="2800" spc="-1" strike="noStrike">
                <a:solidFill>
                  <a:srgbClr val="000000"/>
                </a:solidFill>
                <a:latin typeface="Times New Roman"/>
                <a:ea typeface="Times New Roman"/>
              </a:rPr>
              <a:t>: Performance deteriorates because the participant becomes tired, bored, or distracted from previous tasks </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rryover effect</a:t>
            </a:r>
            <a:r>
              <a:rPr b="0" lang="en-US" sz="2800" spc="-1" strike="noStrike">
                <a:solidFill>
                  <a:srgbClr val="000000"/>
                </a:solidFill>
                <a:latin typeface="Times New Roman"/>
                <a:ea typeface="Times New Roman"/>
              </a:rPr>
              <a:t>: Effect of the previous treatment carry over to influence the response of the next treatment</a:t>
            </a:r>
            <a:endParaRPr b="0" lang="en-US" sz="2800" spc="-1" strike="noStrike">
              <a:solidFill>
                <a:srgbClr val="000000"/>
              </a:solidFill>
              <a:latin typeface="Cambria"/>
            </a:endParaRPr>
          </a:p>
        </p:txBody>
      </p:sp>
      <p:sp>
        <p:nvSpPr>
          <p:cNvPr id="375"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7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F46A-0853-4FBE-A453-E6A1E0476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841320" y="281160"/>
            <a:ext cx="8229600" cy="1145880"/>
          </a:xfrm>
          <a:prstGeom prst="rect">
            <a:avLst/>
          </a:prstGeom>
          <a:ln w="0">
            <a:noFill/>
          </a:ln>
        </p:spPr>
      </p:pic>
      <p:sp>
        <p:nvSpPr>
          <p:cNvPr id="378"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unterbalancing</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lete </a:t>
            </a:r>
            <a:r>
              <a:rPr b="1" lang="en-US" sz="2800" spc="-1" strike="noStrike">
                <a:solidFill>
                  <a:srgbClr val="000000"/>
                </a:solidFill>
                <a:latin typeface="Times New Roman"/>
                <a:ea typeface="Times New Roman"/>
              </a:rPr>
              <a:t>counterbalancing</a:t>
            </a:r>
            <a:r>
              <a:rPr b="0" lang="en-US" sz="2800" spc="-1" strike="noStrike">
                <a:solidFill>
                  <a:srgbClr val="000000"/>
                </a:solidFill>
                <a:latin typeface="Times New Roman"/>
                <a:ea typeface="Times New Roman"/>
              </a:rPr>
              <a:t>: All possible orders of presentation are included in the experiment</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tin square</a:t>
            </a:r>
            <a:r>
              <a:rPr b="0" lang="en-US" sz="2800" spc="-1" strike="noStrike">
                <a:solidFill>
                  <a:srgbClr val="000000"/>
                </a:solidFill>
                <a:latin typeface="Times New Roman"/>
                <a:ea typeface="Times New Roman"/>
              </a:rPr>
              <a:t>: Constructed for using the technique to control for order effects without having all possible orders</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ime interval between treatment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oosing between independent groups and repeated measures designs</a:t>
            </a:r>
            <a:endParaRPr b="0" lang="en-US" sz="3200" spc="-1" strike="noStrike">
              <a:solidFill>
                <a:srgbClr val="000000"/>
              </a:solidFill>
              <a:latin typeface="Cambria"/>
            </a:endParaRPr>
          </a:p>
        </p:txBody>
      </p:sp>
      <p:sp>
        <p:nvSpPr>
          <p:cNvPr id="379"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8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4901-0842-4C0C-8DAA-E9ABD3160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Rectangle 2" descr=""/>
          <p:cNvPicPr/>
          <p:nvPr/>
        </p:nvPicPr>
        <p:blipFill>
          <a:blip r:embed="rId1"/>
          <a:stretch/>
        </p:blipFill>
        <p:spPr>
          <a:xfrm>
            <a:off x="841320" y="281160"/>
            <a:ext cx="8229600" cy="1145880"/>
          </a:xfrm>
          <a:prstGeom prst="rect">
            <a:avLst/>
          </a:prstGeom>
          <a:ln w="0">
            <a:noFill/>
          </a:ln>
        </p:spPr>
      </p:pic>
      <p:sp>
        <p:nvSpPr>
          <p:cNvPr id="38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8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F759-70A4-4293-B019-8077932DF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84" name="Picture 1" descr=""/>
          <p:cNvPicPr/>
          <p:nvPr/>
        </p:nvPicPr>
        <p:blipFill>
          <a:blip r:embed="rId2"/>
          <a:stretch/>
        </p:blipFill>
        <p:spPr>
          <a:xfrm>
            <a:off x="938160" y="1771560"/>
            <a:ext cx="7267680" cy="455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Rectangle 2" descr=""/>
          <p:cNvPicPr/>
          <p:nvPr/>
        </p:nvPicPr>
        <p:blipFill>
          <a:blip r:embed="rId1"/>
          <a:stretch/>
        </p:blipFill>
        <p:spPr>
          <a:xfrm>
            <a:off x="841320" y="281160"/>
            <a:ext cx="8229600" cy="1145880"/>
          </a:xfrm>
          <a:prstGeom prst="rect">
            <a:avLst/>
          </a:prstGeom>
          <a:ln w="0">
            <a:noFill/>
          </a:ln>
        </p:spPr>
      </p:pic>
      <p:sp>
        <p:nvSpPr>
          <p:cNvPr id="38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Complicated method of assigning participants to conditions in an experiment</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al is to match people on a participant characteristic</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ched to either the dependent measure or a variable that is strongly related to the dependent variable</a:t>
            </a:r>
            <a:endParaRPr b="0" lang="en-US" sz="2800" spc="-1" strike="noStrike">
              <a:solidFill>
                <a:srgbClr val="000000"/>
              </a:solidFill>
              <a:latin typeface="Cambria"/>
            </a:endParaRPr>
          </a:p>
        </p:txBody>
      </p:sp>
      <p:sp>
        <p:nvSpPr>
          <p:cNvPr id="38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8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E42A-E520-49F3-B357-29CBF263A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Rectangle 2" descr=""/>
          <p:cNvPicPr/>
          <p:nvPr/>
        </p:nvPicPr>
        <p:blipFill>
          <a:blip r:embed="rId1"/>
          <a:stretch/>
        </p:blipFill>
        <p:spPr>
          <a:xfrm>
            <a:off x="841320" y="281160"/>
            <a:ext cx="8229600" cy="1145880"/>
          </a:xfrm>
          <a:prstGeom prst="rect">
            <a:avLst/>
          </a:prstGeom>
          <a:ln w="0">
            <a:noFill/>
          </a:ln>
        </p:spPr>
      </p:pic>
      <p:sp>
        <p:nvSpPr>
          <p:cNvPr id="32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e confounding variable, and describe how confounding variables are related to internal validity</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the posttest-only design and the pretest-posttest design, including the advantages and disadvantages of each design</a:t>
            </a:r>
            <a:endParaRPr b="0" lang="en-US" sz="3200" spc="-1" strike="noStrike">
              <a:solidFill>
                <a:srgbClr val="000000"/>
              </a:solidFill>
              <a:latin typeface="Cambria"/>
            </a:endParaRPr>
          </a:p>
        </p:txBody>
      </p:sp>
      <p:sp>
        <p:nvSpPr>
          <p:cNvPr id="32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2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9CCE-874C-44B6-B8E3-0F01A2A06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Rectangle 2" descr=""/>
          <p:cNvPicPr/>
          <p:nvPr/>
        </p:nvPicPr>
        <p:blipFill>
          <a:blip r:embed="rId1"/>
          <a:stretch/>
        </p:blipFill>
        <p:spPr>
          <a:xfrm>
            <a:off x="841320" y="281160"/>
            <a:ext cx="8229600" cy="1145880"/>
          </a:xfrm>
          <a:prstGeom prst="rect">
            <a:avLst/>
          </a:prstGeom>
          <a:ln w="0">
            <a:noFill/>
          </a:ln>
        </p:spPr>
      </p:pic>
      <p:sp>
        <p:nvSpPr>
          <p:cNvPr id="330"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rast an independent groups (between-subjects) design with a repeated measures (within-subjects) design</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mmarize the advantages and disadvantages of using a repeated measures design</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a matched pairs design, including reasons to use this design</a:t>
            </a:r>
            <a:endParaRPr b="0" lang="en-US" sz="3200" spc="-1" strike="noStrike">
              <a:solidFill>
                <a:srgbClr val="000000"/>
              </a:solidFill>
              <a:latin typeface="Cambria"/>
            </a:endParaRPr>
          </a:p>
        </p:txBody>
      </p:sp>
      <p:sp>
        <p:nvSpPr>
          <p:cNvPr id="331"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3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E539-4FCF-4E59-8DBD-9B57841E4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Rectangle 2" descr=""/>
          <p:cNvPicPr/>
          <p:nvPr/>
        </p:nvPicPr>
        <p:blipFill>
          <a:blip r:embed="rId1"/>
          <a:stretch/>
        </p:blipFill>
        <p:spPr>
          <a:xfrm>
            <a:off x="841320" y="281160"/>
            <a:ext cx="8229600" cy="1145880"/>
          </a:xfrm>
          <a:prstGeom prst="rect">
            <a:avLst/>
          </a:prstGeom>
          <a:ln w="0">
            <a:noFill/>
          </a:ln>
        </p:spPr>
      </p:pic>
      <p:sp>
        <p:nvSpPr>
          <p:cNvPr id="334"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founding variable</a:t>
            </a:r>
            <a:r>
              <a:rPr b="0" lang="en-US" sz="3200" spc="-1" strike="noStrike">
                <a:solidFill>
                  <a:srgbClr val="000000"/>
                </a:solidFill>
                <a:latin typeface="Times New Roman"/>
                <a:ea typeface="Times New Roman"/>
              </a:rPr>
              <a:t>: Varies along with the independent variable</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ccurs when the effects of the independent variable and an uncontrolled variable are intertwined</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not determine which variable is responsible for the effect</a:t>
            </a:r>
            <a:endParaRPr b="0" lang="en-US" sz="2800" spc="-1" strike="noStrike">
              <a:solidFill>
                <a:srgbClr val="000000"/>
              </a:solidFill>
              <a:latin typeface="Cambria"/>
            </a:endParaRPr>
          </a:p>
        </p:txBody>
      </p:sp>
      <p:sp>
        <p:nvSpPr>
          <p:cNvPr id="335"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3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6B46-7A2C-4481-ABE3-A36E63117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Rectangle 2" descr=""/>
          <p:cNvPicPr/>
          <p:nvPr/>
        </p:nvPicPr>
        <p:blipFill>
          <a:blip r:embed="rId1"/>
          <a:stretch/>
        </p:blipFill>
        <p:spPr>
          <a:xfrm>
            <a:off x="841320" y="281160"/>
            <a:ext cx="8229600" cy="1145880"/>
          </a:xfrm>
          <a:prstGeom prst="rect">
            <a:avLst/>
          </a:prstGeom>
          <a:ln w="0">
            <a:noFill/>
          </a:ln>
        </p:spPr>
      </p:pic>
      <p:sp>
        <p:nvSpPr>
          <p:cNvPr id="338"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ternal validity</a:t>
            </a:r>
            <a:r>
              <a:rPr b="0" lang="en-US" sz="3200" spc="-1" strike="noStrike">
                <a:solidFill>
                  <a:srgbClr val="000000"/>
                </a:solidFill>
                <a:latin typeface="Times New Roman"/>
                <a:ea typeface="Times New Roman"/>
              </a:rPr>
              <a:t>: Ability to draw conclusions about causal relationships from the data</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ults can be attributed to the effect of the independent variabl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eriment must be designed and conducted so that only the independent variable can be cause of the results</a:t>
            </a:r>
            <a:endParaRPr b="0" lang="en-US" sz="2800" spc="-1" strike="noStrike">
              <a:solidFill>
                <a:srgbClr val="000000"/>
              </a:solidFill>
              <a:latin typeface="Cambria"/>
            </a:endParaRPr>
          </a:p>
        </p:txBody>
      </p:sp>
      <p:sp>
        <p:nvSpPr>
          <p:cNvPr id="339"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4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C403-4901-41D5-8C4C-00B1CDCE3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841320" y="281160"/>
            <a:ext cx="8229600" cy="1145880"/>
          </a:xfrm>
          <a:prstGeom prst="rect">
            <a:avLst/>
          </a:prstGeom>
          <a:ln w="0">
            <a:noFill/>
          </a:ln>
        </p:spPr>
      </p:pic>
      <p:sp>
        <p:nvSpPr>
          <p:cNvPr id="342"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ttest-only design</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st:</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tain two equivalent groups of participant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roduce the independent variable</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sure the effect of the independent variable on the dependent variable</a:t>
            </a:r>
            <a:endParaRPr b="0" lang="en-US" sz="2400" spc="-1" strike="noStrike">
              <a:solidFill>
                <a:srgbClr val="000000"/>
              </a:solidFill>
              <a:latin typeface="Cambria"/>
            </a:endParaRPr>
          </a:p>
        </p:txBody>
      </p:sp>
      <p:sp>
        <p:nvSpPr>
          <p:cNvPr id="343"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4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351F-8F6F-421A-8F6B-AD4933580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Rectangle 2" descr=""/>
          <p:cNvPicPr/>
          <p:nvPr/>
        </p:nvPicPr>
        <p:blipFill>
          <a:blip r:embed="rId1"/>
          <a:stretch/>
        </p:blipFill>
        <p:spPr>
          <a:xfrm>
            <a:off x="841320" y="281160"/>
            <a:ext cx="8229600" cy="1145880"/>
          </a:xfrm>
          <a:prstGeom prst="rect">
            <a:avLst/>
          </a:prstGeom>
          <a:ln w="0">
            <a:noFill/>
          </a:ln>
        </p:spPr>
      </p:pic>
      <p:sp>
        <p:nvSpPr>
          <p:cNvPr id="34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test-posttest design</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test is given to each group prior to introduction of the experimental manipulation</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ures that groups are equivalent at the beginning of the experiment</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Minimum of 20 to 30 participants are required per condition for a statistically significant effect</a:t>
            </a:r>
            <a:endParaRPr b="0" lang="en-US" sz="2800" spc="-1" strike="noStrike">
              <a:solidFill>
                <a:srgbClr val="000000"/>
              </a:solidFill>
              <a:latin typeface="Cambria"/>
            </a:endParaRPr>
          </a:p>
        </p:txBody>
      </p:sp>
      <p:sp>
        <p:nvSpPr>
          <p:cNvPr id="34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4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0996-BFE3-446A-9B54-74A22FF5B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841320" y="281160"/>
            <a:ext cx="8229600" cy="1145880"/>
          </a:xfrm>
          <a:prstGeom prst="rect">
            <a:avLst/>
          </a:prstGeom>
          <a:ln w="0">
            <a:noFill/>
          </a:ln>
        </p:spPr>
      </p:pic>
      <p:sp>
        <p:nvSpPr>
          <p:cNvPr id="350"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Comparing posttest-only and pretest-posttest design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ortality</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trition</a:t>
            </a:r>
            <a:r>
              <a:rPr b="0" lang="en-US" sz="2800" spc="-1" strike="noStrike">
                <a:solidFill>
                  <a:srgbClr val="000000"/>
                </a:solidFill>
                <a:latin typeface="Times New Roman"/>
                <a:ea typeface="Times New Roman"/>
              </a:rPr>
              <a:t>): Dropout factor in experiment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 equivalency of groups with small sample siz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select participants for the experiment</a:t>
            </a:r>
            <a:endParaRPr b="0" lang="en-US" sz="2800" spc="-1" strike="noStrike">
              <a:solidFill>
                <a:srgbClr val="000000"/>
              </a:solidFill>
              <a:latin typeface="Cambria"/>
            </a:endParaRPr>
          </a:p>
        </p:txBody>
      </p:sp>
      <p:sp>
        <p:nvSpPr>
          <p:cNvPr id="351"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5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798A-9694-4CB9-9FFC-D1CE93D98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841320" y="281160"/>
            <a:ext cx="8229600" cy="1145880"/>
          </a:xfrm>
          <a:prstGeom prst="rect">
            <a:avLst/>
          </a:prstGeom>
          <a:ln w="0">
            <a:noFill/>
          </a:ln>
        </p:spPr>
      </p:pic>
      <p:sp>
        <p:nvSpPr>
          <p:cNvPr id="354"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advantages of the pretest-posttest design</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me consuming </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wkward to administer</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nsitizes participants to what is being studied</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ffects the way participants react to manipulation</a:t>
            </a:r>
            <a:endParaRPr b="0" lang="en-US" sz="2400" spc="-1" strike="noStrike">
              <a:solidFill>
                <a:srgbClr val="000000"/>
              </a:solidFill>
              <a:latin typeface="Cambria"/>
            </a:endParaRPr>
          </a:p>
        </p:txBody>
      </p:sp>
      <p:sp>
        <p:nvSpPr>
          <p:cNvPr id="355"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5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8520-EA1A-41D7-BCAB-E7DA011EA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00:29:22Z</dcterms:created>
  <dc:creator>Kimberly  Foreman</dc:creator>
  <dc:description/>
  <dc:language>en-US</dc:language>
  <cp:lastModifiedBy>Tejas Iyer</cp:lastModifiedBy>
  <dcterms:modified xsi:type="dcterms:W3CDTF">2014-10-08T11:39:26Z</dcterms:modified>
  <cp:revision>37</cp:revision>
  <dc:subject/>
  <dc:title>METHODS IN BEHAVIORAL RESEARCH</dc:title>
</cp:coreProperties>
</file>